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8D7B-6F0C-461A-9360-602DA2517B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D008-1BFF-40D1-B206-23784092A2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093E4-26F2-44BF-B7E4-EA0C270DB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42AB-D5BE-4890-B1FA-F15A1C931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EBB6-C7DB-4C3A-B704-FFD4EFAEF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B7EA2-0911-4E45-BF2A-0EF30AB9C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E662D-4CDA-4940-8084-548AEE581E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1B362-0E2E-4122-B2F3-5F6B39F1FC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BEA5E-242D-4470-9DCD-6D5D2790A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C94D9-F5E2-44D8-9F67-FF36D38FF7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DDD3-1404-4F80-8D7D-F5784427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0B419-15BB-4A3F-8D3F-9E3266F4F8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35EE4-4314-4AD9-90FB-20C227020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6D425-8034-4D63-8B14-13D14263C9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6E74-23E5-470C-B6E1-1D07642DA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5643-5FA4-45CB-B6F5-EF0B22D9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7B1E6-0173-429E-A9FD-9559466A9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F4A4F-3D28-478A-B699-C81EE3E38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63F01-802A-4141-8FAB-D8E76638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C134D-465D-4479-B24C-C8A8452D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B217-A936-4CF6-A6A9-485A939F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EBFB6-1AED-4682-AC3C-EEDC192A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F2F88-B50F-4E18-A648-307A6A45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BCE46-6807-49F8-AC94-EC80B43F4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ED57E-BF69-42A6-8AD5-4D1DE44D5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939A-82E6-4394-99AF-08B10629D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F750-9751-4250-BC84-EA68C3F0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F394-4783-4D91-A9E5-9AC0FB5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2551-F015-4C10-8566-03322C03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60EF9-D8AC-4B8B-B966-B69DB98B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DE31-3226-4A31-836D-8603739DC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D3D6-17E6-4E5D-992A-46C333470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C815-76B3-4701-8754-A54FF1D9A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50C2-872F-40A9-8195-7D3D73FDC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A756E-64C3-40A1-BA00-BACA9440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9BDA-208C-4D36-A2ED-81FB5EB8D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129D-E1FD-47FA-BB51-02FB6165A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30F2-24D8-40E5-B2F0-3FD8ED53E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6527C-598A-4E0B-BFD5-52AFD8F7E5D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41A7-0863-48D4-ACA7-B2DBA720CA3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"/>
              </a:rPr>
              <a:t>Technology Center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3441240"/>
            <a:ext cx="73152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o! Temp – Temperature Detec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1" descr="Temp probe"/>
          <p:cNvPicPr/>
          <p:nvPr/>
        </p:nvPicPr>
        <p:blipFill>
          <a:blip r:embed="rId1"/>
          <a:stretch/>
        </p:blipFill>
        <p:spPr>
          <a:xfrm>
            <a:off x="4038480" y="4114800"/>
            <a:ext cx="4648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7:  Why Do We Need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Thermome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each cup of water by placing              two fingers in each cup for 30 seconds                &amp; predict the temperature of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temperatures of the water &amp; compare to your predi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cuss the importance of thermome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MCj03513280000[1]"/>
          <p:cNvPicPr/>
          <p:nvPr/>
        </p:nvPicPr>
        <p:blipFill>
          <a:blip r:embed="rId1"/>
          <a:stretch/>
        </p:blipFill>
        <p:spPr>
          <a:xfrm rot="21067800">
            <a:off x="6997320" y="599760"/>
            <a:ext cx="188136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8:  Comparing Insu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ich cup will be the best insulator (keeps heat 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emperature data for 1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between the starting and end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cup is the better insulat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this compare to your predi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j0287563"/>
          <p:cNvPicPr/>
          <p:nvPr/>
        </p:nvPicPr>
        <p:blipFill>
          <a:blip r:embed="rId1"/>
          <a:stretch/>
        </p:blipFill>
        <p:spPr>
          <a:xfrm>
            <a:off x="6705720" y="4724280"/>
            <a:ext cx="2438280" cy="1916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" descr="j0345915"/>
          <p:cNvPicPr/>
          <p:nvPr/>
        </p:nvPicPr>
        <p:blipFill>
          <a:blip r:embed="rId2"/>
          <a:stretch/>
        </p:blipFill>
        <p:spPr>
          <a:xfrm flipH="1">
            <a:off x="7238520" y="762120"/>
            <a:ext cx="165420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9:  Design a Ther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materials to create a ther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lect the temperature of the water for 20 min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between the starting and end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successful was your               desig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6" descr="j0237672"/>
          <p:cNvPicPr/>
          <p:nvPr/>
        </p:nvPicPr>
        <p:blipFill>
          <a:blip r:embed="rId1"/>
          <a:stretch/>
        </p:blipFill>
        <p:spPr>
          <a:xfrm>
            <a:off x="6095880" y="4343400"/>
            <a:ext cx="20606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3055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10:  I’m Melting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temperature of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one ice cube and continue to record the temperature as the ice me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difference between the starting and ending temper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 the same procedure with             a second ice cu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your observ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5" descr="MCj02158370000[1]"/>
          <p:cNvPicPr/>
          <p:nvPr/>
        </p:nvPicPr>
        <p:blipFill>
          <a:blip r:embed="rId1"/>
          <a:stretch/>
        </p:blipFill>
        <p:spPr>
          <a:xfrm>
            <a:off x="6095880" y="4672080"/>
            <a:ext cx="2819520" cy="19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1:  Learning to Use Go! Te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2:  Mittens 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3:  Baggie Mitte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4:  Sole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5:  Cool Reac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237410"/>
          <p:cNvPicPr/>
          <p:nvPr/>
        </p:nvPicPr>
        <p:blipFill>
          <a:blip r:embed="rId1"/>
          <a:stretch/>
        </p:blipFill>
        <p:spPr>
          <a:xfrm>
            <a:off x="6705720" y="2438280"/>
            <a:ext cx="1447560" cy="13194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j0290430"/>
          <p:cNvPicPr/>
          <p:nvPr/>
        </p:nvPicPr>
        <p:blipFill>
          <a:blip r:embed="rId2"/>
          <a:stretch/>
        </p:blipFill>
        <p:spPr>
          <a:xfrm>
            <a:off x="5943600" y="3505320"/>
            <a:ext cx="1066680" cy="10634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j0287501"/>
          <p:cNvPicPr/>
          <p:nvPr/>
        </p:nvPicPr>
        <p:blipFill>
          <a:blip r:embed="rId3"/>
          <a:stretch/>
        </p:blipFill>
        <p:spPr>
          <a:xfrm>
            <a:off x="6172200" y="4724280"/>
            <a:ext cx="117936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3520" y="159984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6:  Cold As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7:  Why Do We Need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       Thermometer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8:  Comparing Insula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9:  Design a Therm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10:  I’m Melting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j0232106"/>
          <p:cNvPicPr/>
          <p:nvPr/>
        </p:nvPicPr>
        <p:blipFill>
          <a:blip r:embed="rId1"/>
          <a:stretch/>
        </p:blipFill>
        <p:spPr>
          <a:xfrm>
            <a:off x="5181480" y="914400"/>
            <a:ext cx="1203480" cy="15447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MCj03513280000[1]"/>
          <p:cNvPicPr/>
          <p:nvPr/>
        </p:nvPicPr>
        <p:blipFill>
          <a:blip r:embed="rId2"/>
          <a:stretch/>
        </p:blipFill>
        <p:spPr>
          <a:xfrm rot="21067800">
            <a:off x="6324480" y="1828800"/>
            <a:ext cx="1206720" cy="15145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j0287563"/>
          <p:cNvPicPr/>
          <p:nvPr/>
        </p:nvPicPr>
        <p:blipFill>
          <a:blip r:embed="rId3"/>
          <a:stretch/>
        </p:blipFill>
        <p:spPr>
          <a:xfrm>
            <a:off x="7086600" y="3352680"/>
            <a:ext cx="1828800" cy="1436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0" descr="j0237672"/>
          <p:cNvPicPr/>
          <p:nvPr/>
        </p:nvPicPr>
        <p:blipFill>
          <a:blip r:embed="rId4"/>
          <a:stretch/>
        </p:blipFill>
        <p:spPr>
          <a:xfrm>
            <a:off x="6095880" y="4800600"/>
            <a:ext cx="1206720" cy="1290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MCj02158370000[1]"/>
          <p:cNvPicPr/>
          <p:nvPr/>
        </p:nvPicPr>
        <p:blipFill>
          <a:blip r:embed="rId5"/>
          <a:stretch/>
        </p:blipFill>
        <p:spPr>
          <a:xfrm rot="409800">
            <a:off x="1828440" y="5257440"/>
            <a:ext cx="2055960" cy="138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1:  Learning to Use Go! Tem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arn how to use a Go! Temp Sen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temperature of your h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could you change the temperature of your han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temperature of the water in each cup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plore how to create the let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the lett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sing the temp pro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j0290422"/>
          <p:cNvPicPr/>
          <p:nvPr/>
        </p:nvPicPr>
        <p:blipFill>
          <a:blip r:embed="rId1"/>
          <a:stretch/>
        </p:blipFill>
        <p:spPr>
          <a:xfrm rot="21431400">
            <a:off x="228600" y="3429000"/>
            <a:ext cx="78588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2:  Mittens 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emperature of your pal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emperature of a m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 the mitten on your hand and find the temperature of your palm with the mitten 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cribe the dif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 mittens help your              hands stay war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j0237410"/>
          <p:cNvPicPr/>
          <p:nvPr/>
        </p:nvPicPr>
        <p:blipFill>
          <a:blip r:embed="rId1"/>
          <a:stretch/>
        </p:blipFill>
        <p:spPr>
          <a:xfrm>
            <a:off x="6095880" y="4267080"/>
            <a:ext cx="259092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3:  Baggie Mitte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dict which materials would                   make the best insul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 a mitten from the plastic            baggies and insulation 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your hand in the mitten and find the temper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your mitten on an ice pack and find the temperature of your h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re mittens made of different types of ins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j0212681"/>
          <p:cNvPicPr/>
          <p:nvPr/>
        </p:nvPicPr>
        <p:blipFill>
          <a:blip r:embed="rId1"/>
          <a:stretch/>
        </p:blipFill>
        <p:spPr>
          <a:xfrm>
            <a:off x="6248520" y="1447920"/>
            <a:ext cx="236196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4:  Sole Purpo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dict which shoe will have the most fr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b the temperature probe across the sole of the shoe &amp; find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y different types of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temperature of the         soles of different types of sh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shoes have the lowest                and highest fri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j0290430"/>
          <p:cNvPicPr/>
          <p:nvPr/>
        </p:nvPicPr>
        <p:blipFill>
          <a:blip r:embed="rId1"/>
          <a:stretch/>
        </p:blipFill>
        <p:spPr>
          <a:xfrm>
            <a:off x="7543800" y="51055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7" descr="j0290429"/>
          <p:cNvPicPr/>
          <p:nvPr/>
        </p:nvPicPr>
        <p:blipFill>
          <a:blip r:embed="rId2"/>
          <a:stretch/>
        </p:blipFill>
        <p:spPr>
          <a:xfrm>
            <a:off x="6172200" y="5289480"/>
            <a:ext cx="1376280" cy="15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j0290445"/>
          <p:cNvPicPr/>
          <p:nvPr/>
        </p:nvPicPr>
        <p:blipFill>
          <a:blip r:embed="rId3"/>
          <a:stretch/>
        </p:blipFill>
        <p:spPr>
          <a:xfrm>
            <a:off x="7315200" y="3962520"/>
            <a:ext cx="152388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nter 5:  Cool Reaction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l the cup with 3 teaspoons of vin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the temperature of the vin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1 teaspoon of baking so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e the changing           temperature of a reaction            between baking soda and            vineg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j0292116"/>
          <p:cNvPicPr/>
          <p:nvPr/>
        </p:nvPicPr>
        <p:blipFill>
          <a:blip r:embed="rId1"/>
          <a:stretch/>
        </p:blipFill>
        <p:spPr>
          <a:xfrm>
            <a:off x="6019920" y="4038480"/>
            <a:ext cx="2895480" cy="247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Go! Temp – Temperature Detector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enter 6:  Cold As I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d the temperature of th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ice to the cup of water &amp;        record the temper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 two spoonfuls of salt                     to the ice wa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does salt affect the       temperature of the freezing wa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j0232106"/>
          <p:cNvPicPr/>
          <p:nvPr/>
        </p:nvPicPr>
        <p:blipFill>
          <a:blip r:embed="rId1"/>
          <a:stretch/>
        </p:blipFill>
        <p:spPr>
          <a:xfrm>
            <a:off x="6553080" y="2819520"/>
            <a:ext cx="19591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5:02:31Z</dcterms:created>
  <dc:creator>Randolph County Schools</dc:creator>
  <dc:description/>
  <dc:language>en-US</dc:language>
  <cp:lastModifiedBy>Ana Flyod</cp:lastModifiedBy>
  <dcterms:modified xsi:type="dcterms:W3CDTF">2011-02-06T19:38:35Z</dcterms:modified>
  <cp:revision>24</cp:revision>
  <dc:subject/>
  <dc:title>Technology Centers</dc:title>
</cp:coreProperties>
</file>